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3686-373D-4BFE-A0D0-DB549B77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92E8-0807-4224-9F41-36C87AF0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FBC6-99FF-4EC0-8AB7-508A1E63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2253-3965-433B-A0BE-2037E3C7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AE8E-693B-45C3-A368-05B4C6BD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B23F-B270-4989-9F9C-78E5E50A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8DCA-33B5-4E31-B2AE-5792D817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1FB1-E200-4ED1-A76D-995BDCE8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075F-7C90-450C-8DC1-202EAFC8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534F-1E7E-4C25-88C4-B71F68A3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DFCD-2AD0-4F72-8F74-944CC601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E70E-DE3E-4DED-B0DF-6E192C12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16B6-28EB-4C3A-92C2-1A1F91E2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14D4-A03B-495B-994B-C6F7A0F0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2C43-7A14-4E20-9656-CA93D264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6BDC-6E78-4F41-A645-1FA8400D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71B9-28F2-4717-9BEB-4BB8A4A3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2598-2C7C-446E-BF56-599CBD7C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C00F-D357-43A6-BD45-E496FAB5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B859-706E-4B96-A7D6-F12E7FE3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9DFA-42B5-4B7E-BB05-C38B3F30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7DB0-631D-4D8A-B7B8-8BF5737D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9D74-9B44-4230-8611-7BAFDC57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D2C4-F560-48FA-A69E-CDC88165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53E7-EEF9-40D6-9A84-46E6DDA41F89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D72F-9192-44C9-9E8D-453DB86BD571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mmunoz@cmvm.cl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9"/>
          <p:cNvSpPr/>
          <p:nvPr/>
        </p:nvSpPr>
        <p:spPr>
          <a:xfrm>
            <a:off x="971640" y="1214280"/>
            <a:ext cx="70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rporación Municipal Viña del M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0" name="Group 12"/>
          <p:cNvGrpSpPr/>
          <p:nvPr/>
        </p:nvGrpSpPr>
        <p:grpSpPr>
          <a:xfrm>
            <a:off x="7429680" y="357120"/>
            <a:ext cx="1713960" cy="1453320"/>
            <a:chOff x="7429680" y="357120"/>
            <a:chExt cx="1713960" cy="1453320"/>
          </a:xfrm>
        </p:grpSpPr>
        <p:pic>
          <p:nvPicPr>
            <p:cNvPr id="111" name="Picture 13" descr="log-cmvm"/>
            <p:cNvPicPr/>
            <p:nvPr/>
          </p:nvPicPr>
          <p:blipFill>
            <a:blip r:embed="rId1"/>
            <a:stretch/>
          </p:blipFill>
          <p:spPr>
            <a:xfrm>
              <a:off x="7429680" y="357120"/>
              <a:ext cx="1713960" cy="96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14" descr="Copia de logo02"/>
            <p:cNvPicPr/>
            <p:nvPr/>
          </p:nvPicPr>
          <p:blipFill>
            <a:blip r:embed="rId2"/>
            <a:stretch/>
          </p:blipFill>
          <p:spPr>
            <a:xfrm>
              <a:off x="7429680" y="1397880"/>
              <a:ext cx="1713960" cy="41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6 CuadroTexto"/>
          <p:cNvSpPr/>
          <p:nvPr/>
        </p:nvSpPr>
        <p:spPr>
          <a:xfrm>
            <a:off x="785880" y="2286000"/>
            <a:ext cx="814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Gestión Curricular CMVM 201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Estado de Avance de Programas Comun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6 CuadroTexto"/>
          <p:cNvSpPr/>
          <p:nvPr/>
        </p:nvSpPr>
        <p:spPr>
          <a:xfrm>
            <a:off x="2143080" y="4857840"/>
            <a:ext cx="500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Miguel Muñoz Baqueda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Viña del Mar, 12 mayo del 20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aeaea"/>
                </a:solidFill>
                <a:latin typeface="Tahoma"/>
              </a:rPr>
              <a:t>Aplicacion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28800" y="1500120"/>
            <a:ext cx="79293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ógica clásica</a:t>
            </a: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: Respuesta única (dicotómica); Teoría Clásica de los test; Psicometría; Teoría de respuesta al ítem (TRI); Paradigma cuantitativo; Ciencias Naturales (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ensamiento Convergente</a:t>
            </a: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ógica Borrosa</a:t>
            </a: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: Respuesta múltiple; Respuesta graduada; Paradigma cualitativo; Ciencias Sociales y del comportamiento (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ensamiento Divergente</a:t>
            </a: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28440" y="0"/>
            <a:ext cx="754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Modelo de Estilos de Pensamiento (ZEP)</a:t>
            </a:r>
            <a:br>
              <a:rPr sz="1800"/>
            </a:b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(Muñoz, Larrondo, Lara y Saavedra, 2011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8715240" cy="56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56800" y="20714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ahoma"/>
              </a:rPr>
              <a:t>Eje de la GC: La creatividad e Innovación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28440" y="3143160"/>
            <a:ext cx="75438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En la Gestión Curricular o pedagógic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Estimular y desarrollar iniciativas propias en la UE en el marco curricular vige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3 CuadroTexto"/>
          <p:cNvSpPr/>
          <p:nvPr/>
        </p:nvSpPr>
        <p:spPr>
          <a:xfrm>
            <a:off x="1428840" y="571680"/>
            <a:ext cx="67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je de la GC: Creatividad e innov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ropuesta/Programa/Plan Anual de la Escuela/Lice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Metodología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99720" y="2071800"/>
            <a:ext cx="75438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Descripción de Plan/Programa (al 30 de abril enviando a CC CMV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Cronogram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- Actividades/fechas y encargado(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aeaea"/>
                </a:solidFill>
                <a:latin typeface="Tahoma"/>
              </a:rPr>
              <a:t>Creatividad en Matemática… en el aula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8704080" cy="2143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>
            <a:grayscl/>
          </a:blip>
          <a:srcRect l="62654" t="27849" r="0" b="0"/>
          <a:stretch/>
        </p:blipFill>
        <p:spPr>
          <a:xfrm>
            <a:off x="2214720" y="4000680"/>
            <a:ext cx="1428480" cy="2141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3"/>
          <a:srcRect l="0" t="53911" r="0" b="12956"/>
          <a:stretch/>
        </p:blipFill>
        <p:spPr>
          <a:xfrm>
            <a:off x="4357800" y="4429080"/>
            <a:ext cx="212076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714240" y="554040"/>
            <a:ext cx="788364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571680" y="270000"/>
            <a:ext cx="798012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6 CuadroTexto"/>
          <p:cNvSpPr/>
          <p:nvPr/>
        </p:nvSpPr>
        <p:spPr>
          <a:xfrm>
            <a:off x="1000080" y="1214280"/>
            <a:ext cx="58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Gracias por su aten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7 CuadroTexto"/>
          <p:cNvSpPr/>
          <p:nvPr/>
        </p:nvSpPr>
        <p:spPr>
          <a:xfrm>
            <a:off x="857160" y="3643200"/>
            <a:ext cx="5540400" cy="25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iguel Muñoz Baquedan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oordinador de Gestión Curricular, Educación, CMV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el:       32-2272 42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-mail:  </a:t>
            </a:r>
            <a:r>
              <a:rPr b="0" lang="es-ES" sz="1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mmunoz@cmvm.c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8" name="Group 12"/>
          <p:cNvGrpSpPr/>
          <p:nvPr/>
        </p:nvGrpSpPr>
        <p:grpSpPr>
          <a:xfrm>
            <a:off x="7429680" y="357120"/>
            <a:ext cx="1713960" cy="1453320"/>
            <a:chOff x="7429680" y="357120"/>
            <a:chExt cx="1713960" cy="1453320"/>
          </a:xfrm>
        </p:grpSpPr>
        <p:pic>
          <p:nvPicPr>
            <p:cNvPr id="149" name="Picture 13" descr="log-cmvm"/>
            <p:cNvPicPr/>
            <p:nvPr/>
          </p:nvPicPr>
          <p:blipFill>
            <a:blip r:embed="rId2"/>
            <a:stretch/>
          </p:blipFill>
          <p:spPr>
            <a:xfrm>
              <a:off x="7429680" y="357120"/>
              <a:ext cx="1713960" cy="96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14" descr="Copia de logo02"/>
            <p:cNvPicPr/>
            <p:nvPr/>
          </p:nvPicPr>
          <p:blipFill>
            <a:blip r:embed="rId3"/>
            <a:stretch/>
          </p:blipFill>
          <p:spPr>
            <a:xfrm>
              <a:off x="7429680" y="1397880"/>
              <a:ext cx="1713960" cy="412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ontenido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42640" y="242856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Fundamentos teóricos de la G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El conocimiento, aprendizaje, una revisión epistemológ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La creatividad e innovación en la escue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Fundamentos Teórico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42640" y="1642680"/>
            <a:ext cx="75438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. El Humanismo </a:t>
            </a: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(Psicología Humanist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Carl Rogers (1951, 1967, 1983); John Dewey (1916). Enfatiza la experiencia subjetiva, la libertad de elección y la relevancia del significado individu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Aprendizaje experiencial (Las palabras están cargadas de significado personal). La experiencia se construy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Implicancia en el aula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42640" y="1642680"/>
            <a:ext cx="75438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Desarrollo afecti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Autoest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Métodos flexi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Trabajo Grup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Rol educador: guía, facilita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Evaluación cualitati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. El interaccionismo social (simbólico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Las personas construyen y desarrollan sus estructuras cognitivas socialmente al experimentar, comunicar y entender la realidad a través del lenguaje y la cultu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Mundo y hombre son concebidos co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s-ES_tradnl" sz="32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c00000"/>
                </a:solidFill>
                <a:latin typeface="Tahoma"/>
              </a:rPr>
              <a:t>procesos</a:t>
            </a: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, no como realidades substancial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El interaccionismo social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66320" y="1571400"/>
            <a:ext cx="75438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El centro de la escuela es el aprendizaje: Todos apren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La organización apren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El aprendizaje es en distribuido y en paralelo (cerebr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El conocimiento y la interpretación de la realidad son cambiantes en función de la mejor evid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. Investigación-Acción (Métodos etnográficos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Método de investigación en que el investigador (docente) tiene un doble rol: Investigador (observador) y participa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El método combina dos tipos de conocimientos: Teórico y el de un contexto determin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mplicancia en el aula: aprender a aprende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28440" y="1928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La investigación-implementación-intervención es llevada por docen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Resuelve problemas de la enseñan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Implica la aplicación del método científ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El trabajo del docente es colaborativo, intercambia ideas y se comparten result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64260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El aprendizaje, una revisión epistemológica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71320" y="1285920"/>
            <a:ext cx="83581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ógica Clásica </a:t>
            </a: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(Sí- No) Aristotélica, griega, occidental, racional (Paradigma cuantitativo); Correcto-Incorrecto; verdadero-falso; sistemas line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ógica Difusa</a:t>
            </a: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, Borrosa, Fuzzi, razonamiento aproximado (Paradigma cualitativo); grados de verdad; rúbrica; indicadores; sistemas complejos; efecto maripo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"Vagueness: An exercise in Logical Analysis" y Karl Menger (1902 - 1985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3T13:52:53Z</dcterms:created>
  <dc:creator>lauverd</dc:creator>
  <dc:description/>
  <dc:language>en-US</dc:language>
  <cp:lastModifiedBy>Administrador</cp:lastModifiedBy>
  <dcterms:modified xsi:type="dcterms:W3CDTF">2011-05-12T13:53:43Z</dcterms:modified>
  <cp:revision>136</cp:revision>
  <dc:subject/>
  <dc:title>Diapositiva 1</dc:title>
</cp:coreProperties>
</file>